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F8C7-234B-4C36-ADB5-9C1D67D1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2CDC-A6B3-4706-BF18-5579A55B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9885-F959-4978-AB24-AACAC6CC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5FB2-72CE-4FD7-BAFE-52F42E22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8C48-A086-45B5-A817-9BF531DF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F06-E353-4DBD-9FC9-B5ACEBF3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20D4-9721-4E14-A588-72BCA6E5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E9E0-ADA6-4BB7-B524-A7398F75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8CA0-6EFC-4DDF-A091-B5811828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F01B-58D3-43B6-9A2C-75421154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E9B-6DE5-4439-9A3E-752E4A8A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281E-7B82-4061-875A-6C26C007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F8A1-2548-41ED-A8F2-C3462728C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 and mouse ga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ic Du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743200"/>
            <a:ext cx="2819520" cy="1905120"/>
          </a:xfrm>
          <a:prstGeom prst="rightArrow">
            <a:avLst>
              <a:gd name="adj1" fmla="val 50000"/>
              <a:gd name="adj2" fmla="val 3699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106668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endshow"/>
            <a:hlinkClick r:id="rId1"/>
          </p:cNvPr>
          <p:cNvSpPr/>
          <p:nvPr/>
        </p:nvSpPr>
        <p:spPr>
          <a:xfrm rot="5400000">
            <a:off x="3124080" y="228240"/>
            <a:ext cx="2362320" cy="1905120"/>
          </a:xfrm>
          <a:prstGeom prst="rightArrow">
            <a:avLst>
              <a:gd name="adj1" fmla="val 50000"/>
              <a:gd name="adj2" fmla="val 31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6324480" y="2666520"/>
            <a:ext cx="2819520" cy="1905120"/>
          </a:xfrm>
          <a:prstGeom prst="rightArrow">
            <a:avLst>
              <a:gd name="adj1" fmla="val 50000"/>
              <a:gd name="adj2" fmla="val 36999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8522600">
            <a:off x="799920" y="4838040"/>
            <a:ext cx="2133720" cy="1905120"/>
          </a:xfrm>
          <a:prstGeom prst="rightArrow">
            <a:avLst>
              <a:gd name="adj1" fmla="val 50000"/>
              <a:gd name="adj2" fmla="val 28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3116000">
            <a:off x="5486400" y="4647600"/>
            <a:ext cx="2819520" cy="1904760"/>
          </a:xfrm>
          <a:prstGeom prst="rightArrow">
            <a:avLst>
              <a:gd name="adj1" fmla="val 50000"/>
              <a:gd name="adj2" fmla="val 3700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3123000">
            <a:off x="75600" y="457200"/>
            <a:ext cx="2819520" cy="1904760"/>
          </a:xfrm>
          <a:prstGeom prst="rightArrow">
            <a:avLst>
              <a:gd name="adj1" fmla="val 50000"/>
              <a:gd name="adj2" fmla="val 370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7 0.06104 L 0.7875 0.19422 E">
                                      <p:cBhvr>
                                        <p:cTn id="6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12139E-006 L 0.20417 0.80463 E">
                                      <p:cBhvr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36994E-006 L -0.7625 0.3052 E">
                                      <p:cBhvr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4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9191E-006 L 0.52917 -0.84347 E">
                                      <p:cBhvr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9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4335E-006 L -0.57917 -0.69364 E">
                                      <p:cBhvr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25 0.01665 L 0.7375 0.11653 E">
                                      <p:cBhvr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w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2286000"/>
            <a:ext cx="4800600" cy="35812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63244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2057400"/>
            <a:ext cx="5029200" cy="3733920"/>
          </a:xfrm>
          <a:prstGeom prst="smileyFace">
            <a:avLst>
              <a:gd name="adj" fmla="val -4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352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3800" y="3505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anks for play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4:33:17Z</dcterms:created>
  <dc:creator>CGB</dc:creator>
  <dc:description/>
  <dc:language>en-US</dc:language>
  <cp:lastModifiedBy>CGB</cp:lastModifiedBy>
  <dcterms:modified xsi:type="dcterms:W3CDTF">2008-01-11T15:04:36Z</dcterms:modified>
  <cp:revision>4</cp:revision>
  <dc:subject/>
  <dc:title>Cat and mouse game </dc:title>
</cp:coreProperties>
</file>